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3C2A-75E7-4C7E-B653-8DC88C1A9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3A35-6078-4329-94F3-9B5C47FA6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4E6D-34C5-4C7A-9010-9BC0B491F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7C38-3244-4918-9B63-F2884B39C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9C328-5FBA-4AED-A753-4EB35264B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1481A-9BAA-4764-8761-B456E597A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956DB-CB45-4DE9-91AF-3EBA08B91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04818-32D4-48D7-B8FB-509C33CB4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56FCC-335F-4747-85B6-22B553783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93A9C-1FE9-46B3-8F57-ACE9AD9F1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9493D-33E8-4240-AABF-7BB01139A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7835-14AD-4CBD-9E62-37D2203D5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ABE75-5D7F-42F2-B871-7BD8967DB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EEFF1-F04C-4F98-BB7F-865AD3750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B5FE4-1076-4049-96B8-D36EBD1E7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B1A66-F060-4007-9F3D-3CEAA9EE2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932BB-254F-4FB6-9423-289E4EB27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FFF7-735F-4944-8E7B-451B9EC30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7440-82B1-4AA2-A2E8-D20C23789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EC3C-BAC8-46FA-ADE6-BC1F103F4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5036-516C-4729-B4D4-20B456DFB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727C-BE13-48AC-B9B2-A289BF134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B973-EF07-42BD-BCCC-2671417BE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F480-DA49-46F4-B90D-EBD2550D3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3A889-12E4-44CB-AC56-BA6FF4A1B0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B0C34-5B32-4A88-B247-808BB225B7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citationmachine.net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o You Need A Bibliography?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rything you need to kn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What is a bibliography and why do you need one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list of sources that you used for rese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owing readers to check that the information you present is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cur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p to 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lev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if your research is so exciting, it lets the reader know where they can go to learn mor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at if I Use a Book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You need these pieces of information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thor. Title. City of Publication: Publisher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ear of Publicatio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t would look like thi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jahn, Rebecca, and Donald Wojahn.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 Desert Food Chai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Minneapolis, MN: Lerner Publications, 2009. Prin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at if I Use a Web Page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ou need this inform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uthors Names. Title of Webpage. Title of Website. Date published or last updated. Publishing Organization or owner. Date you accessed the information.  The URL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a lot of information.  You may not be able to find everything.  That is ok– list what you find in the order abov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e an example on the next slid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eb Page Exampl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"A Desert Food Chain."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Double Tak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2002.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arning Media Limited , Web. 24 Feb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010.&lt;http://www.orbitforkids.com/dou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letaes/yellow/dt_yellow_desert.html&gt;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ice the quotation marks and periods.  Those are important.  Also the 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lines are indented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 couple of things to Know…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 teachers call bibliographies “works cited”  or refer to the entries as cita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’s all the same thing… don’t be confus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r Bibliography needs to list the entries in alphabetical ord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an entry is longer than one line, each of the extra lines is indented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Need More Information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r Agenda Book – Page 16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website will generate bibliography entries if you have the informatio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32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http://Citationmachine.n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r Teacher or Media Specialist can help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4T17:34:38Z</dcterms:created>
  <dc:creator>ccps</dc:creator>
  <dc:description/>
  <dc:language>en-US</dc:language>
  <cp:lastModifiedBy>ccps</cp:lastModifiedBy>
  <dcterms:modified xsi:type="dcterms:W3CDTF">2010-02-24T18:20:42Z</dcterms:modified>
  <cp:revision>5</cp:revision>
  <dc:subject/>
  <dc:title>So You Need A Bibliography?</dc:title>
</cp:coreProperties>
</file>